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2656-4D64-48D6-9659-7A3A1790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F9B4-C471-4894-8C62-88D66C12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5D8B-98CA-4AC4-98BD-2A758F48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1BE9-B51D-4B4D-9F3F-ED68FE5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2D39-90BB-4351-951D-0EE4350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83A0-39DB-4C6A-AF47-AC2E560E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421D-911D-4679-994D-DC33BDB0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483-DB3C-4673-AA68-13CCEB5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2B3-CF74-4694-BED8-962B3CF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3B65-07A2-472B-BAEB-D4AA034C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1A8-E93C-428C-A8F8-D2BE816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0782-76A4-4B8B-B223-8C04309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5C6-006C-4E10-A3BD-A0F3D64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807-3DA6-4528-B29B-126AC17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7D3-7D79-4639-8147-E23259D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4FB-D8DC-4143-9AA6-72306A6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C533-BD8C-4ED2-AF93-7C4C4845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80F0-FD1C-419F-8F2A-B93A395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DEE8-4263-4045-9FC2-6221A01B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2FCE-A1E8-4FFB-AB59-B57CA5F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AF52-E53A-4AD0-BC08-203302E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96A6-CB86-4914-BC85-1F555C9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63FF-38DA-44EF-9B45-0E71BA5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9537-0296-4502-98A2-5F0B1A0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CB5-C5E1-4008-B110-02FBF30935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3D6F-963D-4199-A15C-503ADFD1BB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Урок природоведения                                     «Водоемы нашего края»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4 класс</a:t>
            </a:r>
            <a:br>
              <a:rPr sz="5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(по учебнику А.А.Плешакова «Окружающий мир»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4149360"/>
            <a:ext cx="7448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а и провела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ова Элеонора Васильевна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3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749" t="3248" r="51320" b="52356"/>
          <a:stretch/>
        </p:blipFill>
        <p:spPr>
          <a:xfrm>
            <a:off x="1042920" y="1600200"/>
            <a:ext cx="7129440" cy="4781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709560"/>
          </a:xfrm>
          <a:custGeom>
            <a:avLst/>
            <a:gdLst>
              <a:gd name="textAreaLeft" fmla="*/ 45720 w 826920"/>
              <a:gd name="textAreaRight" fmla="*/ 781200 w 8269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5171" h="21600">
                <a:moveTo>
                  <a:pt x="0" y="0"/>
                </a:moveTo>
                <a:lnTo>
                  <a:pt x="25171" y="0"/>
                </a:lnTo>
                <a:lnTo>
                  <a:pt x="25171" y="21600"/>
                </a:lnTo>
                <a:lnTo>
                  <a:pt x="0" y="21600"/>
                </a:lnTo>
                <a:close/>
              </a:path>
              <a:path fill="lightenLess" w="25171" h="21600">
                <a:moveTo>
                  <a:pt x="0" y="0"/>
                </a:moveTo>
                <a:lnTo>
                  <a:pt x="25171" y="0"/>
                </a:lnTo>
                <a:lnTo>
                  <a:pt x="23771" y="1400"/>
                </a:lnTo>
                <a:lnTo>
                  <a:pt x="1400" y="1400"/>
                </a:lnTo>
                <a:close/>
              </a:path>
              <a:path fill="darken" w="25171" h="21600">
                <a:moveTo>
                  <a:pt x="25171" y="0"/>
                </a:moveTo>
                <a:lnTo>
                  <a:pt x="25171" y="21600"/>
                </a:lnTo>
                <a:lnTo>
                  <a:pt x="23771" y="20200"/>
                </a:lnTo>
                <a:lnTo>
                  <a:pt x="23771" y="1400"/>
                </a:lnTo>
                <a:close/>
              </a:path>
              <a:path fill="darkenLess" w="25171" h="21600">
                <a:moveTo>
                  <a:pt x="2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1" y="20200"/>
                </a:lnTo>
                <a:close/>
              </a:path>
              <a:path fill="lighten" w="2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4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8961" t="1476" r="2029" b="52356"/>
          <a:stretch/>
        </p:blipFill>
        <p:spPr>
          <a:xfrm>
            <a:off x="1258920" y="1600200"/>
            <a:ext cx="691344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244000" y="581508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5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754" t="50720" r="54778" b="726"/>
          <a:stretch/>
        </p:blipFill>
        <p:spPr>
          <a:xfrm>
            <a:off x="1187280" y="160020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8459640" y="5815080"/>
            <a:ext cx="684360" cy="853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53920"/>
              <a:gd name="textAreaBottom" fmla="*/ 809640 h 853920"/>
            </a:gdLst>
            <a:ahLst/>
            <a:rect l="textAreaLeft" t="textAreaTop" r="textAreaRight" b="textAreaBottom"/>
            <a:pathLst>
              <a:path w="21600" h="26949">
                <a:moveTo>
                  <a:pt x="0" y="0"/>
                </a:moveTo>
                <a:lnTo>
                  <a:pt x="21600" y="0"/>
                </a:lnTo>
                <a:lnTo>
                  <a:pt x="21600" y="26949"/>
                </a:lnTo>
                <a:lnTo>
                  <a:pt x="0" y="26949"/>
                </a:lnTo>
                <a:close/>
              </a:path>
              <a:path fill="lightenLess" w="21600" h="26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9">
                <a:moveTo>
                  <a:pt x="21600" y="0"/>
                </a:moveTo>
                <a:lnTo>
                  <a:pt x="21600" y="26949"/>
                </a:lnTo>
                <a:lnTo>
                  <a:pt x="20200" y="25549"/>
                </a:lnTo>
                <a:lnTo>
                  <a:pt x="20200" y="1400"/>
                </a:lnTo>
                <a:close/>
              </a:path>
              <a:path fill="darkenLess" w="21600" h="26949">
                <a:moveTo>
                  <a:pt x="21600" y="26949"/>
                </a:moveTo>
                <a:lnTo>
                  <a:pt x="0" y="26949"/>
                </a:lnTo>
                <a:lnTo>
                  <a:pt x="1400" y="25549"/>
                </a:lnTo>
                <a:lnTo>
                  <a:pt x="20200" y="25549"/>
                </a:lnTo>
                <a:close/>
              </a:path>
              <a:path fill="lighten" w="21600" h="26949">
                <a:moveTo>
                  <a:pt x="0" y="26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6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5326" t="50554" r="3987" b="892"/>
          <a:stretch/>
        </p:blipFill>
        <p:spPr>
          <a:xfrm>
            <a:off x="1258920" y="1600200"/>
            <a:ext cx="684216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647640" cy="782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82640"/>
              <a:gd name="textAreaBottom" fmla="*/ 740880 h 782640"/>
            </a:gdLst>
            <a:ahLst/>
            <a:rect l="textAreaLeft" t="textAreaTop" r="textAreaRight" b="textAreaBottom"/>
            <a:pathLst>
              <a:path w="21600" h="26100">
                <a:moveTo>
                  <a:pt x="0" y="0"/>
                </a:moveTo>
                <a:lnTo>
                  <a:pt x="21600" y="0"/>
                </a:lnTo>
                <a:lnTo>
                  <a:pt x="21600" y="26100"/>
                </a:lnTo>
                <a:lnTo>
                  <a:pt x="0" y="26100"/>
                </a:lnTo>
                <a:close/>
              </a:path>
              <a:path fill="lightenLess" w="21600" h="261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00">
                <a:moveTo>
                  <a:pt x="21600" y="0"/>
                </a:moveTo>
                <a:lnTo>
                  <a:pt x="21600" y="26100"/>
                </a:lnTo>
                <a:lnTo>
                  <a:pt x="20200" y="24700"/>
                </a:lnTo>
                <a:lnTo>
                  <a:pt x="20200" y="1400"/>
                </a:lnTo>
                <a:close/>
              </a:path>
              <a:path fill="darkenLess" w="21600" h="26100">
                <a:moveTo>
                  <a:pt x="21600" y="26100"/>
                </a:moveTo>
                <a:lnTo>
                  <a:pt x="0" y="26100"/>
                </a:lnTo>
                <a:lnTo>
                  <a:pt x="1400" y="24700"/>
                </a:lnTo>
                <a:lnTo>
                  <a:pt x="20200" y="24700"/>
                </a:lnTo>
                <a:close/>
              </a:path>
              <a:path fill="lighten" w="21600" h="26100">
                <a:moveTo>
                  <a:pt x="0" y="261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7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680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317080" y="5589720"/>
            <a:ext cx="576000" cy="718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56">
                <a:moveTo>
                  <a:pt x="0" y="0"/>
                </a:moveTo>
                <a:lnTo>
                  <a:pt x="21600" y="0"/>
                </a:lnTo>
                <a:lnTo>
                  <a:pt x="21600" y="26956"/>
                </a:lnTo>
                <a:lnTo>
                  <a:pt x="0" y="26956"/>
                </a:lnTo>
                <a:close/>
              </a:path>
              <a:path fill="lightenLess" w="21600" h="26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6">
                <a:moveTo>
                  <a:pt x="21600" y="0"/>
                </a:moveTo>
                <a:lnTo>
                  <a:pt x="21600" y="26956"/>
                </a:lnTo>
                <a:lnTo>
                  <a:pt x="20200" y="25556"/>
                </a:lnTo>
                <a:lnTo>
                  <a:pt x="20200" y="1400"/>
                </a:lnTo>
                <a:close/>
              </a:path>
              <a:path fill="darkenLess" w="21600" h="26956">
                <a:moveTo>
                  <a:pt x="21600" y="26956"/>
                </a:moveTo>
                <a:lnTo>
                  <a:pt x="0" y="26956"/>
                </a:lnTo>
                <a:lnTo>
                  <a:pt x="1400" y="25556"/>
                </a:lnTo>
                <a:lnTo>
                  <a:pt x="20200" y="25556"/>
                </a:lnTo>
                <a:close/>
              </a:path>
              <a:path fill="lighten" w="21600" h="26956">
                <a:moveTo>
                  <a:pt x="0" y="26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8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9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Урша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4145" t="0" r="639" b="7407"/>
          <a:stretch/>
        </p:blipFill>
        <p:spPr>
          <a:xfrm>
            <a:off x="1116000" y="1700280"/>
            <a:ext cx="6335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647640" cy="709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09560"/>
              <a:gd name="textAreaBottom" fmla="*/ 667800 h 70956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826920" y="2276640"/>
            <a:ext cx="7777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50920" y="1172520"/>
            <a:ext cx="849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абота над новой тем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згадайте ребята такую загадку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и тучка, и туман, я — река и океан. Я летаю и бегу, и стеклянной быть мо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м цветом обозначена вода на кар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им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рутим наш глобус. Какого цвета стала Земля? Почему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его. Потому что 2/3 земной поверхности занимает 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инакова ли вода на вкус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ет, вода бывает пресная и соленая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ая вода в водоемах нашего кр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Пресная) '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де вода солен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В морях и океанах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водоемы вы знае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Океан, море, озеро, река, пруд, канал, водохранилище, руче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йте разделим названные водоемы на две группы по их происхождени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доемы созданные природой (естественные) и созданные человек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кусственны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042920" y="1302120"/>
            <a:ext cx="7489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ение изучения те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тдыхаем  на реке, значит водоем—это место для отдыха люд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еще что вы знаете о значении водоемов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Люди берут из водоемов воду для питья и приготовления пищи. Водоемы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дом для растений и животны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з водоемов берут воду для хозяйственных нужд. По воде перевозят грузы. Воду для работы берут заводы и фабрик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Да, значение водоемов очень велико, потому что без воды не может существовать ни человек, ни животное, ни растени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сегда ли мы правильн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ем себя, находясь у водоем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читайте об этом в учебнике на стр. 155 (5-ый абзац). Учащиеся читают вслух материал в учеб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Итак, мы прочитали сейчас о том, что нельзя допускать, чтобы в водоемах мыли транспор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льзя бросать в воду мусор, оставлять мусор на берегу. Надо следить за чистотой воды, расчищать родники и руч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8"/>
          <p:cNvSpPr/>
          <p:nvPr/>
        </p:nvSpPr>
        <p:spPr>
          <a:xfrm>
            <a:off x="826920" y="487080"/>
            <a:ext cx="76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 сейчас поработаем с картой нашего края. Какие водоемы расположены на территории нашего кра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овите естественные водоемы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и — Белая, Дема, Караидель, Ашкадар, Уршак; озера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ое озеро, Кандракуль и Асылыкуль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 12 — 18 км )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речислите искусственные водоемы нашего края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Павловское водохранилище, Юмагузипское водохранилище, пруды в д. Уразметово, строящийся пруд в с.Первомайское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этом на экране демонстрируются фотографии водоем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Слайд №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На берегу какой реки расположено наше село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а Уршак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Вот как воспел в своём стихотворении Уршак наш земляк поэт Рашит Шакур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{Ученица читает стихотворение «Уршак» на башкирском языке)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емонстрируется слайд ре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настоящее время на заводах и фабриках строятся очистные сооружения, где использованная в производстве вода очищается и используется снова. Мы знаем, что вода — растворитель, в ней растворяются различные вещества, поэтому применение удобрений и химикатов в сельском хозяйстве, в больших количествах, также опасно для всего жив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822320"/>
            <a:ext cx="820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МЯТ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еще загрязняет водоемы? Задание «Подумай!» на стр.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ое значение в природе имеют водоемы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Хранилище воды для быта, производства, дома, приготовления пищи; место для отдыха; перевозка груз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Домашнее зад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ть рассказ о реке Уршак по плану на стр. 153 и карте республ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кортост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просы на стр. 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5">
            <a:hlinkClick r:id="" action="ppaction://hlinkshowjump?jump=lastslide"/>
          </p:cNvPr>
          <p:cNvSpPr/>
          <p:nvPr/>
        </p:nvSpPr>
        <p:spPr>
          <a:xfrm>
            <a:off x="81010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росай мусор в в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ставляй мусор на бере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й велосипед и другие транспортные средства на берегу ре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">
            <a:hlinkClick r:id="" action="ppaction://hlinkshowjump?jump=previousslide"/>
          </p:cNvPr>
          <p:cNvSpPr/>
          <p:nvPr/>
        </p:nvSpPr>
        <p:spPr>
          <a:xfrm>
            <a:off x="8028000" y="5589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11280" y="732600"/>
            <a:ext cx="82818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стопримечательностью Южного Урала, известной во всем мир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ещера Шульганташ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расположенная на на правом берег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еки Агидель в Бурзянском районе Башкортоста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Шульганташ является не только уникальным памятником природ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о и всемирно известным памятником первобытного искус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напоминает дивный дворец с огромными залами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единенными между собой широкими коридора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бщая протяженность пещеры свыше 2 к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ходное отверстие пещеры в ширину 40м, в высоту—20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рез пещеру протекает подземная река Шульга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одна из немногих пещер на земном шаре, в котор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хранились рисунки первобытного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1           Слайд №2                  Слайд №3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4           Слайд №5                  Слайд №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1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ова пещ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56525" b="0"/>
          <a:stretch/>
        </p:blipFill>
        <p:spPr>
          <a:xfrm>
            <a:off x="1116000" y="1700280"/>
            <a:ext cx="72010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826920" cy="782640"/>
          </a:xfrm>
          <a:custGeom>
            <a:avLst/>
            <a:gdLst>
              <a:gd name="textAreaLeft" fmla="*/ 50400 w 826920"/>
              <a:gd name="textAreaRight" fmla="*/ 776520 w 826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2822" h="21600">
                <a:moveTo>
                  <a:pt x="0" y="0"/>
                </a:moveTo>
                <a:lnTo>
                  <a:pt x="22822" y="0"/>
                </a:lnTo>
                <a:lnTo>
                  <a:pt x="22822" y="21600"/>
                </a:lnTo>
                <a:lnTo>
                  <a:pt x="0" y="21600"/>
                </a:lnTo>
                <a:close/>
              </a:path>
              <a:path fill="lightenLess" w="22822" h="21600">
                <a:moveTo>
                  <a:pt x="0" y="0"/>
                </a:moveTo>
                <a:lnTo>
                  <a:pt x="22822" y="0"/>
                </a:lnTo>
                <a:lnTo>
                  <a:pt x="21422" y="1400"/>
                </a:lnTo>
                <a:lnTo>
                  <a:pt x="1400" y="1400"/>
                </a:lnTo>
                <a:close/>
              </a:path>
              <a:path fill="darken" w="22822" h="21600">
                <a:moveTo>
                  <a:pt x="22822" y="0"/>
                </a:moveTo>
                <a:lnTo>
                  <a:pt x="22822" y="21600"/>
                </a:lnTo>
                <a:lnTo>
                  <a:pt x="21422" y="20200"/>
                </a:lnTo>
                <a:lnTo>
                  <a:pt x="21422" y="1400"/>
                </a:lnTo>
                <a:close/>
              </a:path>
              <a:path fill="darkenLess" w="22822" h="21600">
                <a:moveTo>
                  <a:pt x="22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2" y="20200"/>
                </a:lnTo>
                <a:close/>
              </a:path>
              <a:path fill="lighten" w="22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2" h="21600">
                <a:moveTo>
                  <a:pt x="4404" y="7493"/>
                </a:moveTo>
                <a:lnTo>
                  <a:pt x="7912" y="7493"/>
                </a:lnTo>
                <a:lnTo>
                  <a:pt x="7912" y="12828"/>
                </a:lnTo>
                <a:cubicBezTo>
                  <a:pt x="7912" y="13751"/>
                  <a:pt x="8713" y="14482"/>
                  <a:pt x="9748" y="14482"/>
                </a:cubicBezTo>
                <a:lnTo>
                  <a:pt x="11411" y="14482"/>
                </a:lnTo>
                <a:cubicBezTo>
                  <a:pt x="12446" y="14482"/>
                  <a:pt x="13247" y="13751"/>
                  <a:pt x="13247" y="12828"/>
                </a:cubicBezTo>
                <a:lnTo>
                  <a:pt x="13247" y="7493"/>
                </a:lnTo>
                <a:lnTo>
                  <a:pt x="11411" y="7493"/>
                </a:lnTo>
                <a:lnTo>
                  <a:pt x="14918" y="3985"/>
                </a:lnTo>
                <a:lnTo>
                  <a:pt x="18591" y="7493"/>
                </a:lnTo>
                <a:lnTo>
                  <a:pt x="16755" y="7493"/>
                </a:lnTo>
                <a:lnTo>
                  <a:pt x="16755" y="12828"/>
                </a:lnTo>
                <a:cubicBezTo>
                  <a:pt x="16755" y="15596"/>
                  <a:pt x="14179" y="18155"/>
                  <a:pt x="11411" y="18155"/>
                </a:cubicBezTo>
                <a:lnTo>
                  <a:pt x="9748" y="18155"/>
                </a:lnTo>
                <a:cubicBezTo>
                  <a:pt x="6981" y="18155"/>
                  <a:pt x="4404" y="15596"/>
                  <a:pt x="440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2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ход в Капову пещер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5329" t="-83" r="2027" b="0"/>
          <a:stretch/>
        </p:blipFill>
        <p:spPr>
          <a:xfrm>
            <a:off x="971640" y="170028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8388360" y="581508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50:54Z</dcterms:created>
  <dc:creator>User</dc:creator>
  <dc:description/>
  <dc:language>en-US</dc:language>
  <cp:lastModifiedBy>Элеонора</cp:lastModifiedBy>
  <dcterms:modified xsi:type="dcterms:W3CDTF">2012-12-20T16:51:53Z</dcterms:modified>
  <cp:revision>11</cp:revision>
  <dc:subject/>
  <dc:title>Урок природоведения                                      «Водоемы нашего края»  4 класс</dc:title>
</cp:coreProperties>
</file>